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0EA-F604-4EF1-BA81-6302E804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ADD7-0040-466B-8566-44039C1A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C23-3FA8-42EC-80F2-C457A314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AE4-CCAF-4AF9-B8BD-B0C69428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005-E887-419D-A533-9FF6E91D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3CB-85C6-4E3B-BD1F-39D3F187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241-4CFE-4815-BBF5-51FAA4A2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3E7-3518-44BD-BA08-E42149C2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ED19-2770-41B0-AC2D-1212F402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192-8121-4DBB-A25F-B1FAFCA1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494D-48B3-48F9-A8D6-D20B50E7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3C2-CE01-4291-91B8-40659DFF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EDA8-CDC0-46D9-848D-CB62CF9BE02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829944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767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8769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438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 m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23880"/>
            <a:ext cx="7772400" cy="1219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752480"/>
            <a:ext cx="8153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e writ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73392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73392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371600"/>
            <a:ext cx="807732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inear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context-free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recursively enumer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regu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linear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920" y="2666520"/>
            <a:ext cx="54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final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831120"/>
            <a:ext cx="77724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cta Cyberne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0, No. 4, p. 653-66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Turn PDA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7524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218960" y="56386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95280" y="1752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57913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57150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82560" y="1445760"/>
            <a:ext cx="637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ength of push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257800"/>
            <a:ext cx="53316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876920"/>
            <a:ext cx="53352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733920"/>
            <a:ext cx="533160" cy="1904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971800"/>
            <a:ext cx="53352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590920"/>
            <a:ext cx="53352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352680"/>
            <a:ext cx="533160" cy="22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495680"/>
            <a:ext cx="5335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876920"/>
            <a:ext cx="53316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5257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876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495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4114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3733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352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971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590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209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4479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ne-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52480" y="2362320"/>
            <a:ext cx="2210040" cy="25905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2438280"/>
            <a:ext cx="1828800" cy="2286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43900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485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190400"/>
            <a:ext cx="77724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undamenta Informa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2, No. 16, p. 399-4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21824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enerat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12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234440"/>
            <a:ext cx="8305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cs-CZ" sz="3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50840" y="5256720"/>
            <a:ext cx="2907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6379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210040"/>
            <a:ext cx="37339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121824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07680" y="540936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37232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ains a control string according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hes a final configuration after readin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Tomáš Masopust</cp:lastModifiedBy>
  <dcterms:modified xsi:type="dcterms:W3CDTF">2006-09-14T18:19:53Z</dcterms:modified>
  <cp:revision>115</cp:revision>
  <dc:subject/>
  <dc:title>Bez nadpisu</dc:title>
</cp:coreProperties>
</file>